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8B0-D4A0-405A-804F-C703E57B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523-78E5-4039-989D-24FBA13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4B0-C797-4E48-AEF2-46977ABB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A5D-39BD-4166-8073-EF31CCE0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065-65BE-41BA-8DE9-F9A05552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43E-84C6-4FAB-85F7-C7654714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FAD-6CB7-4A50-9527-6816EB60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F6D-C266-4806-BB21-2C8C553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CD6-4A65-4CD5-A6D6-69B5FBB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4F5-D143-43B0-B037-ED74C73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112-A113-4ED2-A4D1-F55E4D60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C41-36FB-481E-954F-1406E6F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B95C-79C5-473D-A9D1-E5B15988B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.bp.blogspot.com/-Q97K2NP_8JY/TufA6Vzax1I/AAAAAAAAAbs/kMrD9Uqh3jw/s1600/German+and+Dutch+imports+and+exports.png" TargetMode="External"/><Relationship Id="rId2" Type="http://schemas.openxmlformats.org/officeDocument/2006/relationships/hyperlink" Target="http://www.economywatch.com/world_economy/germany/export-import.html" TargetMode="External"/><Relationship Id="rId3" Type="http://schemas.openxmlformats.org/officeDocument/2006/relationships/hyperlink" Target="http://www.dw-world.de/dw/article/0,,15060887,00.html" TargetMode="External"/><Relationship Id="rId4" Type="http://schemas.openxmlformats.org/officeDocument/2006/relationships/hyperlink" Target="http://www.icons-land.com/images/products/VistaArrowIconsPreview1.jpg" TargetMode="External"/><Relationship Id="rId5" Type="http://schemas.openxmlformats.org/officeDocument/2006/relationships/hyperlink" Target="http://www.tradingeconomics.com/germany/exports" TargetMode="External"/><Relationship Id="rId6" Type="http://schemas.openxmlformats.org/officeDocument/2006/relationships/hyperlink" Target="http://farm2.staticflickr.com/1243/809322032_9509c03842.jpg" TargetMode="External"/><Relationship Id="rId7" Type="http://schemas.openxmlformats.org/officeDocument/2006/relationships/hyperlink" Target="http://www.1uptravel.com/flags/images/be-lgflag.gif" TargetMode="External"/><Relationship Id="rId8" Type="http://schemas.openxmlformats.org/officeDocument/2006/relationships/hyperlink" Target="http://www.33ff.com/flags/XL_flags/United-Kingdom_flag.gif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Imports and Exports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lsea Gobou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Number: 001090-0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not one of Germany’s import part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Germany is the ____ largest economy 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.bp.blogspot.com/-Q97K2NP_8JY/TufA6Vzax1I/AAAAAAAAAbs/kMrD9Uqh3jw/s1600/German+and+Dutch+imports+and+exports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conomywatch.com/world_economy/germany/export-impo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w-world.de/dw/article/0,,15060887,0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icons-land.com/images/products/VistaArrowIconsPreview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radingeconomics.com/germany/ex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farm2.staticflickr.com/1243/809322032_9509c038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1uptravel.com/flags/images/be-lgflag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33ff.com/flags/XL_flags/United-Kingdom_flag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midcoast.com/~martucci/flags/images/us-50hz*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flagspot.net/images/f/fr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jwsr.ucr.edu/archive/vol5/number3/krempel/krempel_prin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ndia.diplo.de/contentblob/3298134/Galeriebild_gross/1646725/Exports_August_2011_insid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anke!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l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ifth largest economy in the wor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largest economy in the Euro-Z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heavily on its exports to drive the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strong network of trade relationships with the world and almost all the major trading countries in Eur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the world's 3rd largest exporter in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the world's 2nd largest exporter after China in 201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Consumer Produ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632448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utschland makes a lot of cars. They are second to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mpo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 is any good or service brought into one country from another country in a legitimate fashion, typically for use in trade. Import goods or services are provided to domestic consumers by foreign produc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5486400"/>
            <a:ext cx="2724120" cy="55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76720" y="5486400"/>
            <a:ext cx="2724120" cy="55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5880" y="5486400"/>
            <a:ext cx="27241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 and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2670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391520" y="2895480"/>
            <a:ext cx="1752480" cy="138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91520" y="4267080"/>
            <a:ext cx="1752480" cy="133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391520" y="55627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land Imports &amp; Export Ch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362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6172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regard The Yellow and Red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xpo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services are provided to foreign consumers by domestic producers. It is a good that is sent to another country for s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273384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8120" y="6095880"/>
            <a:ext cx="273348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867280" y="6095880"/>
            <a:ext cx="273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43600" y="1219320"/>
            <a:ext cx="3200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st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952880"/>
            <a:ext cx="2590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63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81080" cy="1511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1981080" cy="156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5283360"/>
            <a:ext cx="19810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w In Deutschland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imports and exports hit record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 exports soared to a record-high in March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German exports jumped from 7.3 percent to 98.2 billion euros ($141.1 billion)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as the highest level of exports since 1950 and a monthly increase of 3.1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2010, 2011 exports gained 15.8 percent, while imports advanced 16.9 perc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ion's current account surplus (a measure of all trade including services) widened to 18.8 billion euros in March from 11.9 billion in Febru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year German government expects economic growth of 2.6 percent following a record expansion of 3.6 percent i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Mercedes assembly line"/>
          <p:cNvPicPr/>
          <p:nvPr/>
        </p:nvPicPr>
        <p:blipFill>
          <a:blip r:embed="rId1"/>
          <a:stretch/>
        </p:blipFill>
        <p:spPr>
          <a:xfrm>
            <a:off x="6172200" y="990720"/>
            <a:ext cx="24382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4:38:40Z</dcterms:created>
  <dc:creator>SCSadmin</dc:creator>
  <dc:description/>
  <dc:language>en-US</dc:language>
  <cp:lastModifiedBy>SCSadmin</cp:lastModifiedBy>
  <dcterms:modified xsi:type="dcterms:W3CDTF">2012-03-29T14:08:57Z</dcterms:modified>
  <cp:revision>8</cp:revision>
  <dc:subject/>
  <dc:title>German Imports and Exports </dc:title>
</cp:coreProperties>
</file>